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3015A-3CF6-4D46-880A-90BDD5FB54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52799-D050-4175-9133-4695EDE2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33CD4-7A9C-4207-8116-D8F1275D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854A1-F28E-494A-96F0-719FE0B2FD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5CA09-CFFA-41DA-9D28-08B28CADA3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17C16-EAFD-4D57-B14D-29877851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88C6C-2D72-4D96-8D38-AA2EE0BC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3A7E1-6798-432B-99D7-E0D55D1C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4B44D-4C35-4A69-8B77-1E5AAE76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23CF7-34CA-47D5-A01C-20B5B372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47323-B60B-4ED7-9E1C-DC0EA6E2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CB4AF-68C4-468E-BC09-1384B173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5CD9E-622D-4E88-AC99-95E23383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051F4-59F7-4EE5-9C2B-F563CECA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31747-DBCF-4AA8-92D1-F9F32436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4E6A2-2F16-440D-928C-5266FC45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5708A-00E7-4155-9CEC-FF709BBA82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6A66-10DF-4EF0-AE26-6643FC9AE4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2D87-ED0E-479C-8E64-E0885F1A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5A77-F13C-41AD-8FC7-F5A97751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434D-EE27-4214-944C-444861DB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81FE-DBF8-4AC4-85A7-C7B85689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39A75-B4A0-483C-8332-F0458378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623A-F7D8-497F-A12B-1415AC86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CCDC-E672-4003-98B0-4D04D38D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FC1F-3749-4F85-9C4A-ACB25156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AC69-4920-476C-9064-B72E11FE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80E6-506F-4A80-B0D0-D33C12AC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D5AC-251B-4475-90B6-FDA1189D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551E-CCED-4E36-B0E1-632CC16DCF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9A41E-8ECD-498A-82B7-F8889347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4D2E6-4837-4FB9-AF40-F731DBD5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6DB9D-0560-4B1C-89F6-609496C6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153AC-AD62-4282-A310-7362CCE4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B093B-5269-4824-8807-BF40BDC1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2AA0C-516D-4D05-88BC-8F0124E7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F62998-D618-4F4C-9211-71A43EAC1D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FA7822-A213-4544-9687-55B4774A6E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87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3BD634-DD8A-43BB-AFBA-F0851DCDC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2" descr="illettrisme_couv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3"/>
          <p:cNvSpPr/>
          <p:nvPr/>
        </p:nvSpPr>
        <p:spPr>
          <a:xfrm>
            <a:off x="4043520" y="3306600"/>
            <a:ext cx="10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3"/>
          <p:cNvSpPr/>
          <p:nvPr/>
        </p:nvSpPr>
        <p:spPr>
          <a:xfrm>
            <a:off x="7786800" y="6458040"/>
            <a:ext cx="11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LA DEMARCHE DES ACTIONS EDUCATIVES FAMILIALES</a:t>
            </a: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76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ENSIBILISER LES PROFESSIONNEL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QUOI PARLE-T-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0D03F7-83DE-48A2-8C2B-C127857637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Illettrisme : de quoi parle-t-on ?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d’illettr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 adulte qui a été scolarisé en France et qui n’a pas acquis une maîtrise suffisante des compétences de base pour être autonome dans les situations simples de la vie cour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’analphabét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n’a jamais (ou très peu) été scolarisée, en France ou aill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e Français langue étrangère (FLE)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a été scolarisée dans un autre pays et qui ne maîtrise pas la langue frança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BE6E6-9103-4C39-ABA8-B2751BB2A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c00000"/>
                </a:solidFill>
                <a:latin typeface="Calibri"/>
              </a:rPr>
              <a:t>Combien de personnes concernées ?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8760" y="2491920"/>
            <a:ext cx="526104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2,5 millions de personne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ésultats enquête IVQ – INSEE –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4,4 % des jeunes de 17 an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 (métropole et DOM)</a:t>
            </a:r>
            <a:r>
              <a:rPr b="0" lang="fr-FR" sz="2000" spc="-1" strike="noStrike">
                <a:solidFill>
                  <a:srgbClr val="1f497d"/>
                </a:solidFill>
                <a:latin typeface="Calibri"/>
              </a:rPr>
              <a:t>, soit 32 267 jeu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Journée Défense et Citoyenneté 20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4" descr="couv_brochure"/>
          <p:cNvPicPr/>
          <p:nvPr/>
        </p:nvPicPr>
        <p:blipFill>
          <a:blip r:embed="rId1"/>
          <a:stretch/>
        </p:blipFill>
        <p:spPr>
          <a:xfrm>
            <a:off x="5692680" y="1600200"/>
            <a:ext cx="3143520" cy="430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7D4734-2C42-4A65-A05E-15B3BEB508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pourquoi ?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640" y="1829880"/>
            <a:ext cx="856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mi les 2,5 millions de personnes confrontées à l’illettrisme en France, on compte de nombreux parents et grands-parent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ont beaucoup de difficultés à accompagner la scolarité de leurs enfants (et petits-enfants), à leur transmettre le goût de la lecture, l’appétit d’apprendre, le plaisir des liv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sont gênés dans le contact, la communication et les relations avec les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rencontrent des difficultés pour s’insérer socialement et professionnel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4A6E4-A569-4ACB-8271-834AE15DED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s enjeux au service de la réussite éducative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9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nsibiliser les professionnels intervenant en milieu « populaire »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à la problématique de l’illettrisme et à ses conséquences en matière de parenta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ener les professionnels 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ajuster leurs pratiqu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travailler avec c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ettre les parents en confiance et les mobiliser sur les apprentissages « de base »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ciliter leur autonomie et leur propre développement personn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ribuer à la prévention des difficultés de leurs enf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43A0EE-3365-499F-8BCE-697292F1A4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741320"/>
            <a:ext cx="822960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On distingue trois « paliers » constitutifs de la démarche AEF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Premier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sensibilisation / formation des acteurs professionnels aux thématiques liées à l’illettrisme et particulièrement à la parentalité en situation d’illettris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eux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orientation vers une réponse de formation dite de « droit commun 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Trois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réponse spécifique de formation à visée parenta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oneTexte 3"/>
          <p:cNvSpPr/>
          <p:nvPr/>
        </p:nvSpPr>
        <p:spPr>
          <a:xfrm>
            <a:off x="225360" y="139680"/>
            <a:ext cx="87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S’inscrire dans la démarche AEF: c’est possible quel que soit le point de départ, ça se construit étape après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201546-9BF5-41F6-9BEB-49541F3DB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 : « La démarche familles » de l’AFEV Nanter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orientation vers une réponse de formation dite de « droit commun» (réponse de palier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bilisation des parents dont les enfants participent au dispositif « Accompagnement vers la lectur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5 manifestations durant l’année scolaire : Noël + 3 ateliers contes + 1 spectacle de contes avec une compagnie de théâ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contres entre les acteurs de l’AFEV des Hauts de Seine et les parents, à l’occasion de la distribution en porte-à-porte, chaque mois, du Journal des Familles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(Les parents potentiellement en situation d’illettrisme peuvent ensuite être accompagnés dans une démarche de form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ED833E-D0DB-41C7-A27D-291B0D1C59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 </a:t>
            </a:r>
            <a:br>
              <a:rPr sz="3600"/>
            </a:b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’action du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RETA de Châlons-sur-Saô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réponse spécifique de formation à visée parentale (réponse de palier 3), autour de trois dimension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e action de prévention de l’illettrisme dès l’enf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 accompagnement social et culturel des parents (place de chacun des parents, confiance dans leur capacité éducative, relation parents/enfants, éduc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développement des compétences clés des adult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oir le film réalisé au GR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33569-6F5A-4A32-B6DF-97FED57D62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8:01:17Z</dcterms:created>
  <dc:creator>Bruno LEFEBVRE</dc:creator>
  <dc:description/>
  <dc:language>en-US</dc:language>
  <cp:lastModifiedBy>Utilisateur</cp:lastModifiedBy>
  <dcterms:modified xsi:type="dcterms:W3CDTF">2013-11-08T18:06:55Z</dcterms:modified>
  <cp:revision>28</cp:revision>
  <dc:subject/>
  <dc:title>Présentation PowerPoint</dc:title>
</cp:coreProperties>
</file>