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86A3-7A87-4FDB-92C3-697E1C1D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8AAB-C07E-4E7F-A8EF-56566A5C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66AE-EBF0-44E3-88BA-B8F8C1A7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946B-2CC9-4E94-A467-6A141A5E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5AAC-D54C-434A-B358-15BE5874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3913-2EF7-4DC0-8081-72A1EF87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5861-190A-4014-A956-A6C44B64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F124-4920-426C-9C93-91D36550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2C04-A9C6-4DF7-BFA4-063A2F1D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9DFF-235E-4D6C-834C-7E0F00C6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30B7-5F2D-4B3D-9EDA-E891757E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0A7E-2B0F-4A34-814C-8601DDA9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7A79-0608-42F6-85C6-69E3BB2CC3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24000" y="1398600"/>
            <a:ext cx="84978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Dix diapositives vont défil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Il y a une question par diapositive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affichée 10 second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numérotée, et tu indiques uniquement la réponse, tu n’écris aucun calcul sur ta feuill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00640" y="3141720"/>
            <a:ext cx="740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s sont les diviseu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communs de 12 et 1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94680" y="14652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98680" y="2646360"/>
            <a:ext cx="113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51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052720" y="2708280"/>
            <a:ext cx="623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est-elle une fra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irréductible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143520" y="5013360"/>
            <a:ext cx="26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8"/>
          <p:cNvSpPr/>
          <p:nvPr/>
        </p:nvSpPr>
        <p:spPr>
          <a:xfrm>
            <a:off x="539640" y="362268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07280" y="148752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8"/>
          <p:cNvSpPr/>
          <p:nvPr/>
        </p:nvSpPr>
        <p:spPr>
          <a:xfrm>
            <a:off x="366480" y="2997360"/>
            <a:ext cx="831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075 est-il divisible par 5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80280" y="14716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46240" y="2708280"/>
            <a:ext cx="864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3 est-il un diviseur de 546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2360" y="14828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807840" y="2565360"/>
            <a:ext cx="752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Vrai ou Faux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456 est un multiple de 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00120" y="3500280"/>
            <a:ext cx="780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Lister les diviseurs de 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15200" y="14540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81880" y="2637000"/>
            <a:ext cx="856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3 et 11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15200" y="14684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77280" y="2916360"/>
            <a:ext cx="837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6 et 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15200" y="14778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900000" y="263700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7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884160" y="2708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14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NESR</dc:creator>
  <dc:description/>
  <dc:language>en-US</dc:language>
  <cp:lastModifiedBy>Utilisateur</cp:lastModifiedBy>
  <dcterms:modified xsi:type="dcterms:W3CDTF">2016-03-10T08:44:24Z</dcterms:modified>
  <cp:revision>27</cp:revision>
  <dc:subject/>
  <dc:title>PowerPoint Presentation</dc:title>
</cp:coreProperties>
</file>